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21E7-4C16-406A-AC4D-4335E26A7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18B8-52E5-4857-8F51-B4092F14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BCEE-EDDD-47D2-AE58-AD9240322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9907-A593-43E4-8F9A-6D35B61FA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3954-D5F2-47FB-9A9B-FDF17264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F334-4D9A-45D9-B08E-E39A651A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8664-53E9-44ED-BBF7-0346F870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0910-0086-4793-927B-6DBA44B5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A8EF-F43C-4F9F-B4C7-F548121A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0464-16B0-4786-A92A-931533FA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3A6C-5032-4868-87E7-8D6DFCED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F072-E0D5-486B-A930-415CDB81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4141-FCD9-4622-92F9-B12C6D4DF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4240440" cy="944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4876560" cy="995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57200" y="2819520"/>
            <a:ext cx="784872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701028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534520" cy="2225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66680" y="2286000"/>
            <a:ext cx="22100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4888080" cy="603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7848720" cy="8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6172200" cy="5935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5181480"/>
            <a:ext cx="56390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534520" cy="3476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2666880"/>
            <a:ext cx="518148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4:02:52Z</dcterms:created>
  <dc:creator>grahams</dc:creator>
  <dc:description/>
  <dc:language>en-US</dc:language>
  <cp:lastModifiedBy>grahams</cp:lastModifiedBy>
  <dcterms:modified xsi:type="dcterms:W3CDTF">2012-04-26T14:02:57Z</dcterms:modified>
  <cp:revision>1</cp:revision>
  <dc:subject/>
  <dc:title>Slide 1</dc:title>
</cp:coreProperties>
</file>